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EA498-353F-4C15-B167-0BD77C29573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C69C9-1E7A-4A4C-A6EA-439424F25C9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FBD4C-317A-4B9B-97DA-C0B821F7966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90041-EC7C-4D4E-9F4D-A90F9CEE52A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FE24E-1605-4A7E-A006-237EB1CB77F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F417E-0024-416A-B423-33DB64DEF48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1D81B-A3CF-4FA8-BEB6-99B30EBDF09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4A5CF-D35D-4FFE-A9AB-773E1F1BF31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2352C-291A-4A5E-925A-C37ACBEC136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41F54-C6A5-407F-B6E8-C2AACA8F5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B4C89-9DD5-4556-A0E3-9272441FB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6C825-4F11-49B4-A6C6-F0692CB9C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78C6A-0308-4BD8-93DE-9E1F1E418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7B8D0-D08C-4BDE-81CF-DEF1D98F9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F4C1A-CC2A-4FA6-B3FE-8E8A0E6E4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8DA66-95F6-4DBA-8C4F-FE9808E02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70364-033C-4C26-BB9D-73B54E292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7617E-D717-4B0E-BCAF-5A6580089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E5A32-8BF4-4C4E-A261-B14E8A5D4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4C21F-1FD2-4853-886A-E165721E4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8ACED-A509-4046-BA1B-96B588054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4BDE4-8CD5-418F-833A-91F6E8C39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3D118-07B9-4CB2-B7AA-F03F25808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C129F-0132-4100-AF19-C69757E36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6AAB9-762B-4260-A1F5-94F50DA7A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8053A-985F-4647-B655-4F523855D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27B10-B255-4CF9-A78E-82BB56EC5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B7829-65E9-4B55-AB87-F25A380C2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33978-B4C1-48B2-8BF5-991DA8DA0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2042C-8EFB-46C9-82F9-E56D06374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F0BCF-5073-4DCA-9E65-DA157C944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07A36-B2C8-42BC-AC5C-902D23C5A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50A8F-A5AB-48BD-87A4-3C7BE0F84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9cd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Rectangle 3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253c57"/>
                </a:gs>
                <a:gs pos="100000">
                  <a:srgbClr val="4f81b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253c57"/>
                </a:gs>
                <a:gs pos="100000">
                  <a:srgbClr val="4f81b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352440" y="4184640"/>
              <a:ext cx="546120" cy="102708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352440" y="4616280"/>
              <a:ext cx="546120" cy="102420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52440" y="5024520"/>
              <a:ext cx="546120" cy="102384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52440" y="5429160"/>
              <a:ext cx="546120" cy="102564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52440" y="5837400"/>
              <a:ext cx="546120" cy="102528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477720" y="6242040"/>
              <a:ext cx="420840" cy="62244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52440" y="3755880"/>
              <a:ext cx="546120" cy="102420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352440" y="3414600"/>
              <a:ext cx="549360" cy="91296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253c57"/>
                </a:gs>
                <a:gs pos="100000">
                  <a:srgbClr val="4f81b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253c57"/>
                </a:gs>
                <a:gs pos="100000">
                  <a:srgbClr val="4f81b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352440" y="789120"/>
              <a:ext cx="546120" cy="102528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52440" y="1197000"/>
              <a:ext cx="546120" cy="102384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352440" y="1603440"/>
              <a:ext cx="546120" cy="102384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352440" y="2009880"/>
              <a:ext cx="546120" cy="102528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352440" y="2416320"/>
              <a:ext cx="546120" cy="102708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347760" y="6632640"/>
              <a:ext cx="554040" cy="23652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352440" y="334800"/>
              <a:ext cx="546120" cy="102564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52440" y="-4680"/>
              <a:ext cx="549360" cy="91116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355680" y="-9360"/>
              <a:ext cx="244440" cy="46656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352440" y="2851200"/>
              <a:ext cx="546120" cy="102564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" name="Line 31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1F24C-CC3F-43D8-AE3E-313AF9550AA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9cd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" name="Group 2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72" name="Rectangle 3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Rectangle 4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Rectangle 5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253c57"/>
                </a:gs>
                <a:gs pos="100000">
                  <a:srgbClr val="4f81b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Rectangle 6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253c57"/>
                </a:gs>
                <a:gs pos="100000">
                  <a:srgbClr val="4f81b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Freeform 7"/>
            <p:cNvSpPr/>
            <p:nvPr/>
          </p:nvSpPr>
          <p:spPr>
            <a:xfrm>
              <a:off x="352440" y="4184640"/>
              <a:ext cx="546120" cy="102708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Freeform 8"/>
            <p:cNvSpPr/>
            <p:nvPr/>
          </p:nvSpPr>
          <p:spPr>
            <a:xfrm>
              <a:off x="352440" y="4616280"/>
              <a:ext cx="546120" cy="102420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Freeform 9"/>
            <p:cNvSpPr/>
            <p:nvPr/>
          </p:nvSpPr>
          <p:spPr>
            <a:xfrm>
              <a:off x="352440" y="5024520"/>
              <a:ext cx="546120" cy="102384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Freeform 10"/>
            <p:cNvSpPr/>
            <p:nvPr/>
          </p:nvSpPr>
          <p:spPr>
            <a:xfrm>
              <a:off x="352440" y="5429160"/>
              <a:ext cx="546120" cy="102564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Freeform 11"/>
            <p:cNvSpPr/>
            <p:nvPr/>
          </p:nvSpPr>
          <p:spPr>
            <a:xfrm>
              <a:off x="352440" y="5837400"/>
              <a:ext cx="546120" cy="102528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Freeform 12"/>
            <p:cNvSpPr/>
            <p:nvPr/>
          </p:nvSpPr>
          <p:spPr>
            <a:xfrm>
              <a:off x="477720" y="6242040"/>
              <a:ext cx="420840" cy="62244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Freeform 13"/>
            <p:cNvSpPr/>
            <p:nvPr/>
          </p:nvSpPr>
          <p:spPr>
            <a:xfrm>
              <a:off x="352440" y="3755880"/>
              <a:ext cx="546120" cy="102420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Freeform 14"/>
            <p:cNvSpPr/>
            <p:nvPr/>
          </p:nvSpPr>
          <p:spPr>
            <a:xfrm>
              <a:off x="352440" y="3414600"/>
              <a:ext cx="549360" cy="91296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Rectangle 15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Rectangle 16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Rectangle 17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253c57"/>
                </a:gs>
                <a:gs pos="100000">
                  <a:srgbClr val="4f81b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Rectangle 18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253c57"/>
                </a:gs>
                <a:gs pos="100000">
                  <a:srgbClr val="4f81b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Freeform 19"/>
            <p:cNvSpPr/>
            <p:nvPr/>
          </p:nvSpPr>
          <p:spPr>
            <a:xfrm>
              <a:off x="352440" y="789120"/>
              <a:ext cx="546120" cy="102528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Freeform 20"/>
            <p:cNvSpPr/>
            <p:nvPr/>
          </p:nvSpPr>
          <p:spPr>
            <a:xfrm>
              <a:off x="352440" y="1197000"/>
              <a:ext cx="546120" cy="102384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Freeform 21"/>
            <p:cNvSpPr/>
            <p:nvPr/>
          </p:nvSpPr>
          <p:spPr>
            <a:xfrm>
              <a:off x="352440" y="1603440"/>
              <a:ext cx="546120" cy="102384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Freeform 22"/>
            <p:cNvSpPr/>
            <p:nvPr/>
          </p:nvSpPr>
          <p:spPr>
            <a:xfrm>
              <a:off x="352440" y="2009880"/>
              <a:ext cx="546120" cy="102528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Freeform 23"/>
            <p:cNvSpPr/>
            <p:nvPr/>
          </p:nvSpPr>
          <p:spPr>
            <a:xfrm>
              <a:off x="352440" y="2416320"/>
              <a:ext cx="546120" cy="102708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Freeform 24"/>
            <p:cNvSpPr/>
            <p:nvPr/>
          </p:nvSpPr>
          <p:spPr>
            <a:xfrm>
              <a:off x="347760" y="6632640"/>
              <a:ext cx="554040" cy="23652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Freeform 25"/>
            <p:cNvSpPr/>
            <p:nvPr/>
          </p:nvSpPr>
          <p:spPr>
            <a:xfrm>
              <a:off x="352440" y="334800"/>
              <a:ext cx="546120" cy="102564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Freeform 26"/>
            <p:cNvSpPr/>
            <p:nvPr/>
          </p:nvSpPr>
          <p:spPr>
            <a:xfrm>
              <a:off x="352440" y="-4680"/>
              <a:ext cx="549360" cy="91116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Freeform 27"/>
            <p:cNvSpPr/>
            <p:nvPr/>
          </p:nvSpPr>
          <p:spPr>
            <a:xfrm>
              <a:off x="355680" y="-9360"/>
              <a:ext cx="244440" cy="46656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Freeform 28"/>
            <p:cNvSpPr/>
            <p:nvPr/>
          </p:nvSpPr>
          <p:spPr>
            <a:xfrm>
              <a:off x="352440" y="2851200"/>
              <a:ext cx="546120" cy="102564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Rectangle 29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Line 30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Line 31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Group 5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102" name="Rectangle 6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Rectangle 7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Rectangle 8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253c57"/>
                </a:gs>
                <a:gs pos="100000">
                  <a:srgbClr val="4f81b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Rectangle 9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253c57"/>
                </a:gs>
                <a:gs pos="100000">
                  <a:srgbClr val="4f81b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Freeform 10"/>
            <p:cNvSpPr/>
            <p:nvPr/>
          </p:nvSpPr>
          <p:spPr>
            <a:xfrm>
              <a:off x="352440" y="4194000"/>
              <a:ext cx="546120" cy="102708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Freeform 11"/>
            <p:cNvSpPr/>
            <p:nvPr/>
          </p:nvSpPr>
          <p:spPr>
            <a:xfrm>
              <a:off x="352440" y="4625640"/>
              <a:ext cx="546120" cy="102420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Freeform 12"/>
            <p:cNvSpPr/>
            <p:nvPr/>
          </p:nvSpPr>
          <p:spPr>
            <a:xfrm>
              <a:off x="352440" y="5033880"/>
              <a:ext cx="546120" cy="102384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Freeform 13"/>
            <p:cNvSpPr/>
            <p:nvPr/>
          </p:nvSpPr>
          <p:spPr>
            <a:xfrm>
              <a:off x="352440" y="5438520"/>
              <a:ext cx="546120" cy="102564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Freeform 14"/>
            <p:cNvSpPr/>
            <p:nvPr/>
          </p:nvSpPr>
          <p:spPr>
            <a:xfrm>
              <a:off x="352440" y="5846760"/>
              <a:ext cx="546120" cy="102528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Freeform 15"/>
            <p:cNvSpPr/>
            <p:nvPr/>
          </p:nvSpPr>
          <p:spPr>
            <a:xfrm>
              <a:off x="477720" y="6251400"/>
              <a:ext cx="420840" cy="62244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Freeform 16"/>
            <p:cNvSpPr/>
            <p:nvPr/>
          </p:nvSpPr>
          <p:spPr>
            <a:xfrm>
              <a:off x="352440" y="3765240"/>
              <a:ext cx="546120" cy="102420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Freeform 17"/>
            <p:cNvSpPr/>
            <p:nvPr/>
          </p:nvSpPr>
          <p:spPr>
            <a:xfrm>
              <a:off x="352440" y="3423960"/>
              <a:ext cx="549360" cy="91296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Rectangle 18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Rectangle 19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Rectangle 20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253c57"/>
                </a:gs>
                <a:gs pos="100000">
                  <a:srgbClr val="4f81b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21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253c57"/>
                </a:gs>
                <a:gs pos="100000">
                  <a:srgbClr val="4f81b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Freeform 22"/>
            <p:cNvSpPr/>
            <p:nvPr/>
          </p:nvSpPr>
          <p:spPr>
            <a:xfrm>
              <a:off x="352440" y="798480"/>
              <a:ext cx="546120" cy="102528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Freeform 23"/>
            <p:cNvSpPr/>
            <p:nvPr/>
          </p:nvSpPr>
          <p:spPr>
            <a:xfrm>
              <a:off x="352440" y="1206360"/>
              <a:ext cx="546120" cy="102384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Freeform 24"/>
            <p:cNvSpPr/>
            <p:nvPr/>
          </p:nvSpPr>
          <p:spPr>
            <a:xfrm>
              <a:off x="352440" y="1612800"/>
              <a:ext cx="546120" cy="102384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Freeform 25"/>
            <p:cNvSpPr/>
            <p:nvPr/>
          </p:nvSpPr>
          <p:spPr>
            <a:xfrm>
              <a:off x="352440" y="2019240"/>
              <a:ext cx="546120" cy="102528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Freeform 26"/>
            <p:cNvSpPr/>
            <p:nvPr/>
          </p:nvSpPr>
          <p:spPr>
            <a:xfrm>
              <a:off x="352440" y="2425680"/>
              <a:ext cx="546120" cy="102708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Freeform 27"/>
            <p:cNvSpPr/>
            <p:nvPr/>
          </p:nvSpPr>
          <p:spPr>
            <a:xfrm>
              <a:off x="347760" y="6642000"/>
              <a:ext cx="554040" cy="23652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Freeform 28"/>
            <p:cNvSpPr/>
            <p:nvPr/>
          </p:nvSpPr>
          <p:spPr>
            <a:xfrm>
              <a:off x="352440" y="344160"/>
              <a:ext cx="546120" cy="102564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Freeform 29"/>
            <p:cNvSpPr/>
            <p:nvPr/>
          </p:nvSpPr>
          <p:spPr>
            <a:xfrm>
              <a:off x="352440" y="4680"/>
              <a:ext cx="549360" cy="91116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Freeform 30"/>
            <p:cNvSpPr/>
            <p:nvPr/>
          </p:nvSpPr>
          <p:spPr>
            <a:xfrm>
              <a:off x="355680" y="0"/>
              <a:ext cx="244440" cy="46656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Freeform 31"/>
            <p:cNvSpPr/>
            <p:nvPr/>
          </p:nvSpPr>
          <p:spPr>
            <a:xfrm>
              <a:off x="352440" y="2860560"/>
              <a:ext cx="546120" cy="102564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Rectangle 32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33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34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Group 35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32" name="Rectangle 36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3" name="Group 37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34" name="Group 38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35" name="Group 39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36" name="Rectangle 40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4f81bd"/>
                      </a:gs>
                      <a:gs pos="100000">
                        <a:srgbClr val="253c57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7" name="Rectangle 41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253c57"/>
                      </a:gs>
                      <a:gs pos="100000">
                        <a:srgbClr val="4f81b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" name="AutoShape 42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253c57"/>
                      </a:gs>
                      <a:gs pos="100000">
                        <a:srgbClr val="4f81bd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9" name="AutoShape 43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4f81bd"/>
                      </a:gs>
                      <a:gs pos="100000">
                        <a:srgbClr val="253c57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0" name="Rectangle 44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253c57"/>
                    </a:gs>
                    <a:gs pos="100000">
                      <a:srgbClr val="4f81bd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Oval 45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f81bd"/>
                    </a:gs>
                    <a:gs pos="100000">
                      <a:srgbClr val="253c57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Oval 46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253c57"/>
                    </a:gs>
                    <a:gs pos="100000">
                      <a:srgbClr val="4f81bd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Oval 47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f81bd"/>
                    </a:gs>
                    <a:gs pos="100000">
                      <a:srgbClr val="253c57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" name="Group 48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45" name="Arc 49"/>
                <p:cNvSpPr/>
                <p:nvPr/>
              </p:nvSpPr>
              <p:spPr>
                <a:xfrm>
                  <a:off x="1359000" y="2236680"/>
                  <a:ext cx="54000" cy="457200"/>
                </a:xfrm>
                <a:prstGeom prst="pie">
                  <a:avLst/>
                </a:prstGeom>
                <a:gradFill rotWithShape="0">
                  <a:gsLst>
                    <a:gs pos="0">
                      <a:srgbClr val="4f81bd"/>
                    </a:gs>
                    <a:gs pos="100000">
                      <a:srgbClr val="253c57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Arc 50"/>
                <p:cNvSpPr/>
                <p:nvPr/>
              </p:nvSpPr>
              <p:spPr>
                <a:xfrm>
                  <a:off x="1312920" y="2236680"/>
                  <a:ext cx="54000" cy="457200"/>
                </a:xfrm>
                <a:prstGeom prst="pie">
                  <a:avLst/>
                </a:prstGeom>
                <a:gradFill rotWithShape="0">
                  <a:gsLst>
                    <a:gs pos="0">
                      <a:srgbClr val="253c57"/>
                    </a:gs>
                    <a:gs pos="100000">
                      <a:srgbClr val="4f81bd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AutoShape 51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253c57"/>
                    </a:gs>
                    <a:gs pos="50000">
                      <a:srgbClr val="4f81bd"/>
                    </a:gs>
                    <a:gs pos="100000">
                      <a:srgbClr val="253c57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Freeform 52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f81bd"/>
                    </a:gs>
                    <a:gs pos="100000">
                      <a:srgbClr val="253c57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Freeform 53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f81bd"/>
                    </a:gs>
                    <a:gs pos="100000">
                      <a:srgbClr val="253c57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Oval 54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f81bd"/>
                    </a:gs>
                    <a:gs pos="100000">
                      <a:srgbClr val="253c57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547AB-AA3E-418B-8619-76AEC43AAEB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4642920" y="4000320"/>
            <a:ext cx="4219560" cy="221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65160"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Arial"/>
              </a:rPr>
              <a:t>ЯКОВЛЕВА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5160"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70c0"/>
                </a:solidFill>
                <a:latin typeface="Arial"/>
              </a:rPr>
              <a:t>СВЕТЛАНА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5160"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Arial"/>
              </a:rPr>
              <a:t>ВЛАДИМИРОВНА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5160"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ru-RU" sz="1600" spc="-1" strike="noStrike">
                <a:solidFill>
                  <a:srgbClr val="0070c0"/>
                </a:solidFill>
                <a:latin typeface="Arial"/>
              </a:rPr>
              <a:t>учитель-логопед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5160"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ru-RU" sz="1600" spc="-1" strike="noStrike">
                <a:solidFill>
                  <a:srgbClr val="0070c0"/>
                </a:solidFill>
                <a:latin typeface="Arial"/>
              </a:rPr>
              <a:t>ГБОУ СОШ №589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5160"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Arial"/>
              </a:rPr>
              <a:t>КОЛПИНСКОГО района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5160"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Arial"/>
              </a:rPr>
              <a:t>г.САНКТ-ПЕТЕРБУРГА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3071880" y="1857240"/>
          <a:ext cx="5786280" cy="1554120"/>
        </p:xfrm>
        <a:graphic>
          <a:graphicData uri="http://schemas.openxmlformats.org/drawingml/2006/table">
            <a:tbl>
              <a:tblPr/>
              <a:tblGrid>
                <a:gridCol w="5786280"/>
              </a:tblGrid>
              <a:tr h="1554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0" spc="-1" strike="noStrike">
                          <a:solidFill>
                            <a:srgbClr val="00b0f0"/>
                          </a:solidFill>
                          <a:latin typeface="Arial"/>
                        </a:rPr>
                        <a:t>БУКВА  </a:t>
                      </a:r>
                      <a:r>
                        <a:rPr b="1" lang="ru-RU" sz="9600" spc="-1" strike="noStrike">
                          <a:solidFill>
                            <a:srgbClr val="00b0f0"/>
                          </a:solidFill>
                          <a:latin typeface="Arial"/>
                        </a:rPr>
                        <a:t>С</a:t>
                      </a:r>
                      <a:endParaRPr b="0" lang="en-US" sz="9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1" name="Rectangle 21"/>
          <p:cNvSpPr/>
          <p:nvPr/>
        </p:nvSpPr>
        <p:spPr>
          <a:xfrm>
            <a:off x="3830760" y="342792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76092"/>
                </a:solidFill>
                <a:latin typeface="Times New Roman"/>
              </a:rPr>
              <a:t>Внимательно рассмотри буквы, найди сходство и различия.</a:t>
            </a:r>
            <a:endParaRPr b="0" lang="en-US" sz="4000" spc="-1" strike="noStrike">
              <a:solidFill>
                <a:srgbClr val="1f497d"/>
              </a:solidFill>
              <a:latin typeface="Times New Roman"/>
            </a:endParaRPr>
          </a:p>
        </p:txBody>
      </p:sp>
      <p:pic>
        <p:nvPicPr>
          <p:cNvPr id="203" name="Picture 4" descr=""/>
          <p:cNvPicPr/>
          <p:nvPr/>
        </p:nvPicPr>
        <p:blipFill>
          <a:blip r:embed="rId1"/>
          <a:stretch/>
        </p:blipFill>
        <p:spPr>
          <a:xfrm>
            <a:off x="1785960" y="2428920"/>
            <a:ext cx="725472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76092"/>
                </a:solidFill>
                <a:latin typeface="Times New Roman"/>
              </a:rPr>
              <a:t>Найди спрятанные буквы «С». Обведи их. </a:t>
            </a: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pic>
        <p:nvPicPr>
          <p:cNvPr id="205" name="Picture 4" descr=""/>
          <p:cNvPicPr/>
          <p:nvPr/>
        </p:nvPicPr>
        <p:blipFill>
          <a:blip r:embed="rId1"/>
          <a:stretch/>
        </p:blipFill>
        <p:spPr>
          <a:xfrm>
            <a:off x="1681200" y="2143080"/>
            <a:ext cx="725184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58" descr=""/>
          <p:cNvPicPr/>
          <p:nvPr/>
        </p:nvPicPr>
        <p:blipFill>
          <a:blip r:embed="rId1"/>
          <a:stretch/>
        </p:blipFill>
        <p:spPr>
          <a:xfrm>
            <a:off x="1778040" y="2143080"/>
            <a:ext cx="7031160" cy="171468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76092"/>
                </a:solidFill>
                <a:latin typeface="Times New Roman"/>
              </a:rPr>
              <a:t>Назови перечеркнутые буквы. </a:t>
            </a: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208" name="Прямая соединительная линия 16"/>
          <p:cNvSpPr/>
          <p:nvPr/>
        </p:nvSpPr>
        <p:spPr>
          <a:xfrm>
            <a:off x="2500200" y="2143080"/>
            <a:ext cx="571680" cy="107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Прямая соединительная линия 18"/>
          <p:cNvSpPr/>
          <p:nvPr/>
        </p:nvSpPr>
        <p:spPr>
          <a:xfrm>
            <a:off x="2356560" y="2143080"/>
            <a:ext cx="714600" cy="13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Прямая соединительная линия 20"/>
          <p:cNvSpPr/>
          <p:nvPr/>
        </p:nvSpPr>
        <p:spPr>
          <a:xfrm>
            <a:off x="2214720" y="2143080"/>
            <a:ext cx="785520" cy="157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Прямая соединительная линия 22"/>
          <p:cNvSpPr/>
          <p:nvPr/>
        </p:nvSpPr>
        <p:spPr>
          <a:xfrm>
            <a:off x="2142360" y="2214720"/>
            <a:ext cx="714600" cy="1500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Прямая соединительная линия 24"/>
          <p:cNvSpPr/>
          <p:nvPr/>
        </p:nvSpPr>
        <p:spPr>
          <a:xfrm>
            <a:off x="2071800" y="2428920"/>
            <a:ext cx="642960" cy="1285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Прямая соединительная линия 26"/>
          <p:cNvSpPr/>
          <p:nvPr/>
        </p:nvSpPr>
        <p:spPr>
          <a:xfrm>
            <a:off x="2071080" y="2714760"/>
            <a:ext cx="500040" cy="1000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Прямая соединительная линия 28"/>
          <p:cNvSpPr/>
          <p:nvPr/>
        </p:nvSpPr>
        <p:spPr>
          <a:xfrm>
            <a:off x="2071800" y="3000240"/>
            <a:ext cx="357120" cy="71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Прямая соединительная линия 30"/>
          <p:cNvSpPr/>
          <p:nvPr/>
        </p:nvSpPr>
        <p:spPr>
          <a:xfrm>
            <a:off x="2071080" y="3357720"/>
            <a:ext cx="214200" cy="428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Прямая соединительная линия 32"/>
          <p:cNvSpPr/>
          <p:nvPr/>
        </p:nvSpPr>
        <p:spPr>
          <a:xfrm>
            <a:off x="2714040" y="2214720"/>
            <a:ext cx="285480" cy="500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Прямая соединительная линия 34"/>
          <p:cNvSpPr/>
          <p:nvPr/>
        </p:nvSpPr>
        <p:spPr>
          <a:xfrm>
            <a:off x="3571920" y="2428920"/>
            <a:ext cx="9288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Прямая соединительная линия 36"/>
          <p:cNvSpPr/>
          <p:nvPr/>
        </p:nvSpPr>
        <p:spPr>
          <a:xfrm>
            <a:off x="3571920" y="2571840"/>
            <a:ext cx="9288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Прямая соединительная линия 38"/>
          <p:cNvSpPr/>
          <p:nvPr/>
        </p:nvSpPr>
        <p:spPr>
          <a:xfrm>
            <a:off x="3571920" y="2714760"/>
            <a:ext cx="9288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Прямая соединительная линия 40"/>
          <p:cNvSpPr/>
          <p:nvPr/>
        </p:nvSpPr>
        <p:spPr>
          <a:xfrm>
            <a:off x="3571920" y="2857680"/>
            <a:ext cx="9288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Прямая соединительная линия 42"/>
          <p:cNvSpPr/>
          <p:nvPr/>
        </p:nvSpPr>
        <p:spPr>
          <a:xfrm>
            <a:off x="3571920" y="3000240"/>
            <a:ext cx="9288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2" name="Соединительная линия уступом 44"/>
          <p:cNvCxnSpPr/>
          <p:nvPr/>
        </p:nvCxnSpPr>
        <p:spPr>
          <a:xfrm>
            <a:off x="3571920" y="3142800"/>
            <a:ext cx="929520" cy="2520"/>
          </a:xfrm>
          <a:prstGeom prst="bentConnector3">
            <a:avLst>
              <a:gd name="adj1" fmla="val 49980"/>
            </a:avLst>
          </a:prstGeom>
          <a:ln w="9360">
            <a:solidFill>
              <a:srgbClr val="000000"/>
            </a:solidFill>
            <a:round/>
          </a:ln>
        </p:spPr>
      </p:cxnSp>
      <p:sp>
        <p:nvSpPr>
          <p:cNvPr id="223" name="Прямая соединительная линия 46"/>
          <p:cNvSpPr/>
          <p:nvPr/>
        </p:nvSpPr>
        <p:spPr>
          <a:xfrm>
            <a:off x="3571920" y="3286080"/>
            <a:ext cx="9288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Прямая соединительная линия 48"/>
          <p:cNvSpPr/>
          <p:nvPr/>
        </p:nvSpPr>
        <p:spPr>
          <a:xfrm>
            <a:off x="3571920" y="3429000"/>
            <a:ext cx="9288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Прямая соединительная линия 50"/>
          <p:cNvSpPr/>
          <p:nvPr/>
        </p:nvSpPr>
        <p:spPr>
          <a:xfrm>
            <a:off x="3571920" y="3571920"/>
            <a:ext cx="9288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Прямая соединительная линия 52"/>
          <p:cNvSpPr/>
          <p:nvPr/>
        </p:nvSpPr>
        <p:spPr>
          <a:xfrm>
            <a:off x="4929120" y="2143080"/>
            <a:ext cx="1000080" cy="500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Прямая соединительная линия 54"/>
          <p:cNvSpPr/>
          <p:nvPr/>
        </p:nvSpPr>
        <p:spPr>
          <a:xfrm>
            <a:off x="4929120" y="2143080"/>
            <a:ext cx="1000080" cy="857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Прямая соединительная линия 56"/>
          <p:cNvSpPr/>
          <p:nvPr/>
        </p:nvSpPr>
        <p:spPr>
          <a:xfrm>
            <a:off x="4929120" y="2143080"/>
            <a:ext cx="1000080" cy="1285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Прямая соединительная линия 58"/>
          <p:cNvSpPr/>
          <p:nvPr/>
        </p:nvSpPr>
        <p:spPr>
          <a:xfrm>
            <a:off x="4929120" y="2143080"/>
            <a:ext cx="928800" cy="157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Прямая соединительная линия 60"/>
          <p:cNvSpPr/>
          <p:nvPr/>
        </p:nvSpPr>
        <p:spPr>
          <a:xfrm>
            <a:off x="4929120" y="2143080"/>
            <a:ext cx="642960" cy="157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Прямая соединительная линия 62"/>
          <p:cNvSpPr/>
          <p:nvPr/>
        </p:nvSpPr>
        <p:spPr>
          <a:xfrm>
            <a:off x="4928400" y="2143080"/>
            <a:ext cx="428760" cy="1643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Прямая соединительная линия 64"/>
          <p:cNvSpPr/>
          <p:nvPr/>
        </p:nvSpPr>
        <p:spPr>
          <a:xfrm>
            <a:off x="4928400" y="2143080"/>
            <a:ext cx="142920" cy="1643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Прямая соединительная линия 68"/>
          <p:cNvSpPr/>
          <p:nvPr/>
        </p:nvSpPr>
        <p:spPr>
          <a:xfrm flipH="1">
            <a:off x="4928760" y="2214720"/>
            <a:ext cx="1800" cy="1501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Прямая соединительная линия 80"/>
          <p:cNvSpPr/>
          <p:nvPr/>
        </p:nvSpPr>
        <p:spPr>
          <a:xfrm>
            <a:off x="6143760" y="2786040"/>
            <a:ext cx="10713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Прямая соединительная линия 82"/>
          <p:cNvSpPr/>
          <p:nvPr/>
        </p:nvSpPr>
        <p:spPr>
          <a:xfrm>
            <a:off x="6143760" y="2928960"/>
            <a:ext cx="10713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Прямая соединительная линия 84"/>
          <p:cNvSpPr/>
          <p:nvPr/>
        </p:nvSpPr>
        <p:spPr>
          <a:xfrm>
            <a:off x="6072120" y="3071880"/>
            <a:ext cx="10717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Прямая соединительная линия 86"/>
          <p:cNvSpPr/>
          <p:nvPr/>
        </p:nvSpPr>
        <p:spPr>
          <a:xfrm>
            <a:off x="6143760" y="3214800"/>
            <a:ext cx="10713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Прямая соединительная линия 88"/>
          <p:cNvSpPr/>
          <p:nvPr/>
        </p:nvSpPr>
        <p:spPr>
          <a:xfrm>
            <a:off x="6143760" y="3357720"/>
            <a:ext cx="10713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Прямая соединительная линия 90"/>
          <p:cNvSpPr/>
          <p:nvPr/>
        </p:nvSpPr>
        <p:spPr>
          <a:xfrm>
            <a:off x="6143760" y="3500280"/>
            <a:ext cx="10713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Прямая соединительная линия 96"/>
          <p:cNvSpPr/>
          <p:nvPr/>
        </p:nvSpPr>
        <p:spPr>
          <a:xfrm>
            <a:off x="6143760" y="3643200"/>
            <a:ext cx="10713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Прямая соединительная линия 104"/>
          <p:cNvSpPr/>
          <p:nvPr/>
        </p:nvSpPr>
        <p:spPr>
          <a:xfrm>
            <a:off x="6143760" y="2643120"/>
            <a:ext cx="11430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Прямая соединительная линия 106"/>
          <p:cNvSpPr/>
          <p:nvPr/>
        </p:nvSpPr>
        <p:spPr>
          <a:xfrm>
            <a:off x="6143760" y="2500200"/>
            <a:ext cx="11430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Прямая соединительная линия 108"/>
          <p:cNvSpPr/>
          <p:nvPr/>
        </p:nvSpPr>
        <p:spPr>
          <a:xfrm>
            <a:off x="6072120" y="2357280"/>
            <a:ext cx="11430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Прямая соединительная линия 114"/>
          <p:cNvSpPr/>
          <p:nvPr/>
        </p:nvSpPr>
        <p:spPr>
          <a:xfrm flipH="1">
            <a:off x="4427640" y="2357280"/>
            <a:ext cx="1440" cy="128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Прямая соединительная линия 116"/>
          <p:cNvSpPr/>
          <p:nvPr/>
        </p:nvSpPr>
        <p:spPr>
          <a:xfrm flipH="1">
            <a:off x="4284720" y="2357280"/>
            <a:ext cx="1440" cy="135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Прямая соединительная линия 118"/>
          <p:cNvSpPr/>
          <p:nvPr/>
        </p:nvSpPr>
        <p:spPr>
          <a:xfrm flipH="1">
            <a:off x="4141800" y="2357280"/>
            <a:ext cx="1440" cy="128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Прямая соединительная линия 120"/>
          <p:cNvSpPr/>
          <p:nvPr/>
        </p:nvSpPr>
        <p:spPr>
          <a:xfrm flipH="1">
            <a:off x="3998520" y="2357280"/>
            <a:ext cx="1800" cy="135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Прямая соединительная линия 122"/>
          <p:cNvSpPr/>
          <p:nvPr/>
        </p:nvSpPr>
        <p:spPr>
          <a:xfrm flipH="1">
            <a:off x="3855600" y="2357280"/>
            <a:ext cx="1800" cy="135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Прямая соединительная линия 126"/>
          <p:cNvSpPr/>
          <p:nvPr/>
        </p:nvSpPr>
        <p:spPr>
          <a:xfrm flipH="1">
            <a:off x="3712680" y="2357280"/>
            <a:ext cx="1800" cy="128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Прямая соединительная линия 130"/>
          <p:cNvSpPr/>
          <p:nvPr/>
        </p:nvSpPr>
        <p:spPr>
          <a:xfrm flipH="1">
            <a:off x="8001000" y="2143080"/>
            <a:ext cx="1440" cy="178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Прямая соединительная линия 132"/>
          <p:cNvSpPr/>
          <p:nvPr/>
        </p:nvSpPr>
        <p:spPr>
          <a:xfrm flipH="1">
            <a:off x="7929720" y="2143080"/>
            <a:ext cx="1440" cy="178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Прямая соединительная линия 136"/>
          <p:cNvSpPr/>
          <p:nvPr/>
        </p:nvSpPr>
        <p:spPr>
          <a:xfrm flipH="1">
            <a:off x="7857720" y="2143080"/>
            <a:ext cx="1800" cy="171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Прямая соединительная линия 138"/>
          <p:cNvSpPr/>
          <p:nvPr/>
        </p:nvSpPr>
        <p:spPr>
          <a:xfrm flipH="1">
            <a:off x="8071920" y="2143080"/>
            <a:ext cx="1800" cy="178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Прямая соединительная линия 140"/>
          <p:cNvSpPr/>
          <p:nvPr/>
        </p:nvSpPr>
        <p:spPr>
          <a:xfrm flipH="1">
            <a:off x="8143920" y="2143080"/>
            <a:ext cx="1440" cy="171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Прямая соединительная линия 142"/>
          <p:cNvSpPr/>
          <p:nvPr/>
        </p:nvSpPr>
        <p:spPr>
          <a:xfrm flipH="1">
            <a:off x="8214840" y="2143080"/>
            <a:ext cx="1800" cy="171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Прямая соединительная линия 146"/>
          <p:cNvSpPr/>
          <p:nvPr/>
        </p:nvSpPr>
        <p:spPr>
          <a:xfrm flipH="1">
            <a:off x="8286840" y="2143080"/>
            <a:ext cx="1440" cy="171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Прямая соединительная линия 148"/>
          <p:cNvSpPr/>
          <p:nvPr/>
        </p:nvSpPr>
        <p:spPr>
          <a:xfrm flipH="1">
            <a:off x="7571880" y="2143080"/>
            <a:ext cx="1800" cy="171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Прямая соединительная линия 150"/>
          <p:cNvSpPr/>
          <p:nvPr/>
        </p:nvSpPr>
        <p:spPr>
          <a:xfrm flipH="1">
            <a:off x="7643880" y="2143080"/>
            <a:ext cx="1440" cy="171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Прямая соединительная линия 154"/>
          <p:cNvSpPr/>
          <p:nvPr/>
        </p:nvSpPr>
        <p:spPr>
          <a:xfrm flipH="1">
            <a:off x="7714800" y="2143080"/>
            <a:ext cx="1800" cy="171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Прямая соединительная линия 156"/>
          <p:cNvSpPr/>
          <p:nvPr/>
        </p:nvSpPr>
        <p:spPr>
          <a:xfrm flipH="1">
            <a:off x="7786800" y="2143080"/>
            <a:ext cx="1440" cy="171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76092"/>
                </a:solidFill>
                <a:latin typeface="Times New Roman"/>
              </a:rPr>
              <a:t>Определи букву в неправильном положении.</a:t>
            </a: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pic>
        <p:nvPicPr>
          <p:cNvPr id="262" name="Picture 4" descr=""/>
          <p:cNvPicPr/>
          <p:nvPr/>
        </p:nvPicPr>
        <p:blipFill>
          <a:blip r:embed="rId1"/>
          <a:stretch/>
        </p:blipFill>
        <p:spPr>
          <a:xfrm>
            <a:off x="1857240" y="2143080"/>
            <a:ext cx="7137360" cy="26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76092"/>
                </a:solidFill>
                <a:latin typeface="Times New Roman"/>
              </a:rPr>
              <a:t>Выдели только знакомую букву. </a:t>
            </a: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pic>
        <p:nvPicPr>
          <p:cNvPr id="264" name="Picture 4" descr=""/>
          <p:cNvPicPr/>
          <p:nvPr/>
        </p:nvPicPr>
        <p:blipFill>
          <a:blip r:embed="rId1"/>
          <a:stretch/>
        </p:blipFill>
        <p:spPr>
          <a:xfrm>
            <a:off x="1714680" y="2071800"/>
            <a:ext cx="7200720" cy="22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76092"/>
                </a:solidFill>
                <a:latin typeface="Times New Roman"/>
              </a:rPr>
              <a:t>Выдели букву написанную правильно. </a:t>
            </a:r>
            <a:br>
              <a:rPr sz="4400"/>
            </a:br>
            <a:r>
              <a:rPr b="0" lang="ru-RU" sz="2800" spc="-1" strike="noStrike">
                <a:solidFill>
                  <a:srgbClr val="376092"/>
                </a:solidFill>
                <a:latin typeface="Times New Roman"/>
              </a:rPr>
              <a:t>Раскрась колокольчики с буквой С. </a:t>
            </a:r>
            <a:endParaRPr b="0" lang="en-US" sz="2800" spc="-1" strike="noStrike">
              <a:solidFill>
                <a:srgbClr val="1f497d"/>
              </a:solidFill>
              <a:latin typeface="Times New Roman"/>
            </a:endParaRPr>
          </a:p>
        </p:txBody>
      </p:sp>
      <p:pic>
        <p:nvPicPr>
          <p:cNvPr id="266" name="Picture 5" descr=""/>
          <p:cNvPicPr/>
          <p:nvPr/>
        </p:nvPicPr>
        <p:blipFill>
          <a:blip r:embed="rId1"/>
          <a:stretch/>
        </p:blipFill>
        <p:spPr>
          <a:xfrm>
            <a:off x="2786040" y="1857240"/>
            <a:ext cx="5195880" cy="45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76092"/>
                </a:solidFill>
                <a:latin typeface="Times New Roman"/>
              </a:rPr>
              <a:t>Обведи контур букв. </a:t>
            </a: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pic>
        <p:nvPicPr>
          <p:cNvPr id="268" name="Picture 4" descr=""/>
          <p:cNvPicPr/>
          <p:nvPr/>
        </p:nvPicPr>
        <p:blipFill>
          <a:blip r:embed="rId1"/>
          <a:stretch/>
        </p:blipFill>
        <p:spPr>
          <a:xfrm>
            <a:off x="1857240" y="2071800"/>
            <a:ext cx="707724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Круглая лента лицом вверх 5"/>
          <p:cNvSpPr/>
          <p:nvPr/>
        </p:nvSpPr>
        <p:spPr>
          <a:xfrm>
            <a:off x="1571760" y="1571760"/>
            <a:ext cx="7572240" cy="3286080"/>
          </a:xfrm>
          <a:custGeom>
            <a:avLst/>
            <a:gdLst>
              <a:gd name="textAreaLeft" fmla="*/ 1892880 w 7572240"/>
              <a:gd name="textAreaRight" fmla="*/ 5679360 w 7572240"/>
              <a:gd name="textAreaTop" fmla="*/ 97200 h 3286080"/>
              <a:gd name="textAreaBottom" fmla="*/ 2464560 h 32860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4a452a"/>
                </a:solidFill>
                <a:latin typeface="Times New Roman"/>
              </a:rPr>
              <a:t>МОЛОДЦЫ!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9T14:58:15Z</dcterms:created>
  <dc:creator>1</dc:creator>
  <dc:description/>
  <dc:language>en-US</dc:language>
  <cp:lastModifiedBy>Admin</cp:lastModifiedBy>
  <dcterms:modified xsi:type="dcterms:W3CDTF">2012-11-26T14:45:11Z</dcterms:modified>
  <cp:revision>17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49</vt:r8>
  </property>
  <property fmtid="{D5CDD505-2E9C-101B-9397-08002B2CF9AE}" pid="3" name="Version">
    <vt:r8>4</vt:r8>
  </property>
</Properties>
</file>